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20400" y="949320"/>
            <a:ext cx="5891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58a9"/>
                </a:solidFill>
                <a:latin typeface="Arial"/>
              </a:rPr>
              <a:t>Click to move the slide</a:t>
            </a: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3040" y="5938560"/>
            <a:ext cx="6666120" cy="56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6147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5"/>
          </p:nvPr>
        </p:nvSpPr>
        <p:spPr>
          <a:xfrm>
            <a:off x="4716000" y="-360"/>
            <a:ext cx="36147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6"/>
          </p:nvPr>
        </p:nvSpPr>
        <p:spPr>
          <a:xfrm>
            <a:off x="-360" y="11875680"/>
            <a:ext cx="36147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7"/>
          </p:nvPr>
        </p:nvSpPr>
        <p:spPr>
          <a:xfrm>
            <a:off x="4716000" y="11875680"/>
            <a:ext cx="36147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FCAFA-E8A2-44DD-A256-8BE6733555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0" y="-2880360"/>
            <a:ext cx="1440" cy="90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3300" spc="-1" strike="noStrike">
              <a:solidFill>
                <a:srgbClr val="000000"/>
              </a:solidFill>
              <a:latin typeface="Arial"/>
              <a:ea typeface="Droid Sans Fallb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17847F-6D01-4087-883F-76A9C511A9B4}" type="slidenum">
              <a:rPr b="0" lang="en-GB" sz="1800" spc="-1" strike="noStrike">
                <a:solidFill>
                  <a:srgbClr val="0058a9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49E-A9AD-4FC2-8EDA-9B01E87B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699-397B-40AC-8FD0-AC2ABF97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D46-1830-41E5-9743-83355BE0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664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12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916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664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12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315-A065-4273-AB03-C9EB4A6A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9160" y="48960"/>
            <a:ext cx="98409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4AD-B9E7-4EA1-8BBE-81B9F012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4664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412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916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4664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7412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0ABF2-ADA5-45AC-9E20-AD4017F9D1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E76C0-A3AB-42EE-9C46-A1F0A818E8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00187-9AED-48A5-B2EF-5B54C9361C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7D6E5-DD6E-446F-B068-1E593D312D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E5361-1C66-44C0-B019-592222336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4FA-5E15-4A0B-BB1F-146D9F3D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9160" y="48960"/>
            <a:ext cx="98409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732AA-BA13-4939-BB20-6563F0404C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0D0E1-399D-4563-88DC-01935C72C4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ECF35-BD32-4837-B910-229D5760E1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22C5B-2D79-41DF-AAB4-552AE79217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AC34A-1A33-4EDB-9124-4215AF66D0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E749F-98B0-4A2F-AECD-CEFB9A6899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4664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774120" y="10807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916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4664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774120" y="4065120"/>
            <a:ext cx="316872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86253-8CD2-478A-BCED-A3B225C34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0EB-AA15-42E0-85B1-1F5FEA2D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9F9-E2B1-48BA-B9D5-10E7421A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9160" y="48960"/>
            <a:ext cx="984096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A5D-4F28-44D5-AF5D-9A7A2FB7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598-DE8D-4E2A-9695-CB394FA7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1680" y="40651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207-D557-430A-B123-5E37BBB6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916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1680" y="1080720"/>
            <a:ext cx="480204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9160" y="4065120"/>
            <a:ext cx="9840960" cy="272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6FA-4A05-4468-954B-FDB956B9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B4E90-E6D2-486E-A248-A6B76005A6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912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52360" y="6954840"/>
            <a:ext cx="2070000" cy="507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3382920"/>
            <a:ext cx="85662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58a9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187720" y="1319040"/>
            <a:ext cx="5479920" cy="134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7920" y="208080"/>
            <a:ext cx="4292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912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52360" y="6954840"/>
            <a:ext cx="2070000" cy="507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21000" y="7007400"/>
            <a:ext cx="6985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Num" idx="4"/>
          </p:nvPr>
        </p:nvSpPr>
        <p:spPr>
          <a:xfrm>
            <a:off x="9484920" y="7008480"/>
            <a:ext cx="4856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100" spc="-1" strike="noStrike">
                <a:solidFill>
                  <a:srgbClr val="00499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9F6535-1BDF-424C-9C44-D2A6A08E5B01}" type="slidenum">
              <a:rPr b="0" lang="en-GB" sz="1100" spc="-1" strike="noStrike">
                <a:solidFill>
                  <a:srgbClr val="004990"/>
                </a:solidFill>
                <a:latin typeface="Arial"/>
                <a:ea typeface="DejaVu San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19160" y="48960"/>
            <a:ext cx="984096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58a9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58a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119160" y="1080720"/>
            <a:ext cx="984096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104240" y="6580080"/>
            <a:ext cx="26985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C3,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65160" y="5477040"/>
            <a:ext cx="63500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m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 Sep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4280" y="2936880"/>
            <a:ext cx="9326520" cy="209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upled atmosphere-ocean nudging and automatic visualization of continous experiments with EMoP in autosubmit</a:t>
            </a:r>
            <a:endParaRPr b="0" lang="en-US" sz="3200" spc="-1" strike="noStrike">
              <a:solidFill>
                <a:srgbClr val="0058a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60600" y="3254400"/>
            <a:ext cx="5264280" cy="3651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9880" y="158760"/>
            <a:ext cx="954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Initial conditions using nud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8760" y="11923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45066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4990"/>
                </a:solidFill>
                <a:latin typeface="Arial"/>
              </a:rPr>
              <a:t>Currently we interpolate ocean initial conditions to model grid causing known error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45066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4990"/>
                </a:solidFill>
                <a:latin typeface="Arial"/>
              </a:rPr>
              <a:t>Initial conditions prepared using nudging in the ocean seems to be  wo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63880" y="2936880"/>
            <a:ext cx="6191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36880" y="3030480"/>
            <a:ext cx="438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lation skill Interpolation-Nud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8640" y="158760"/>
            <a:ext cx="954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upled atmsophere-ocean nud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6520" y="10159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45066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4990"/>
                </a:solidFill>
                <a:latin typeface="Arial"/>
              </a:rPr>
              <a:t>Nudging atmospheric dynamics in coupled mode could improve ocean initial conditions due to improved wind st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45066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4586"/>
                </a:solidFill>
                <a:latin typeface="Arial"/>
              </a:rPr>
              <a:t>Low skill of current nudged ocean </a:t>
            </a:r>
            <a:r>
              <a:rPr b="0" lang="en-US" sz="2200" spc="-1" strike="noStrike">
                <a:solidFill>
                  <a:srgbClr val="004586"/>
                </a:solidFill>
                <a:latin typeface="Arial"/>
                <a:ea typeface="Droid Sans Fallback"/>
              </a:rPr>
              <a:t>initial conditions might result from long time scale of relaxation (1 year in the deep ocean and 10 days in the upper ocean). Tuning of the nudging parameter in prog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168560" y="3809880"/>
            <a:ext cx="827532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8760" y="11905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Visualisation tool developed by L. Brodeau designed for EC-Earth model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Provides a summary of a simulation and a broad validation against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Is now implemented into autsubmit such that validation is run in the course of the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9160" y="49320"/>
            <a:ext cx="9842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 complete comparison with EM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8760" y="11905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Timeseries atmosp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file:///cfu/diagnostics/emop_obellprat/i05g/19931101/fc0/time_series/i05g/ocean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Timeseries oc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file:///cfu/diagnostics/emop_obellprat/i05g/19931101/fc0/time_series/i05g/atmosphere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Comparison against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file:///cfu/diagnostics/emop_obellprat/a01q/20000101/fc0/diag_a01q_2000-2029/a01q-obs_2000-2029/sets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9160" y="50760"/>
            <a:ext cx="9842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moP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9160" y="50760"/>
            <a:ext cx="98424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Using EMoP in autosubm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8760" y="11905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New functionalities have been added to autosubmit that allow automatic local post-processing and plo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905120" y="2824200"/>
            <a:ext cx="8127720" cy="3843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20880" y="4210200"/>
            <a:ext cx="3019320" cy="2952720"/>
          </a:xfrm>
          <a:prstGeom prst="ellipse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936880" y="142884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TRANSFE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LE = templates/common/common.local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TFORM =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PENDENCIES = 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NNING = ch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EQUENCY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LOCALPO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LE = /cfu/autosubmit/a028/common.local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TFORM = star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PENDENCIES =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NNING = ch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EQUENCY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ALLCLOCK = 01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[LOCALPLO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LE = /cfu/autosubmit/a028/common.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TFORM = o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PENDENCIES = LOCAL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NNING = ch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REQUENCY =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5480" y="158760"/>
            <a:ext cx="67820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Using EMoP in autosubm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8760" y="11923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Requires additional changes in jobs 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98680" y="230508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7560" y="321156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56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08080" y="2455920"/>
            <a:ext cx="9842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76400" y="1673280"/>
            <a:ext cx="80168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CLASS = em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After transferring output at /cfunas/exp remove a copy available at permanent storage of HPC [Default: Do set "TRUE"]. BOOLEAN = TRUE,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EL_output_remove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Activate cmorization [Default: leave empty]. BOOLEAN = TRUE,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MORIZA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Essential if cmorization is activated. STRING =  (http://www.specs-fp7.eu/wiki/images/1/1c/SPECS_standard_output.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MORFAMILY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Supply the name of the experiment associated (if there is any) otherwise leave it empty. STRING (with space) = seasonal r1p1, seaiceinit r?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OCIATED_EXPERIMENT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Essential if cmorization is activated (Forcing). STRING = Nat,Ant (Nat and Ant is a single o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ING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Essential if cmorization is activated (Initialization description). STRING = N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_DESC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Essential if cmorization is activated (Physics description). STRING = N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_DESC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 Essential if cmorization is activated (Associated model). STRING = N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OC_MODEL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# Activate EmOP after transferring data locally [Default: False]. If TRUE the outclass "emop" will be forced to ensure the right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OP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8760" y="1192320"/>
            <a:ext cx="9842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SzPct val="114083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4990"/>
                </a:solidFill>
                <a:latin typeface="Arial"/>
              </a:rPr>
              <a:t>And changes in proj 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8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8200" y="158760"/>
            <a:ext cx="67816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Using EMoP in autosubm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8:44:11Z</dcterms:created>
  <dc:creator>Omar Bellprat</dc:creator>
  <dc:description/>
  <dc:language>en-US</dc:language>
  <cp:lastModifiedBy>Omar Bellprat</cp:lastModifiedBy>
  <dcterms:modified xsi:type="dcterms:W3CDTF">2015-09-14T08:44:36Z</dcterms:modified>
  <cp:revision>1</cp:revision>
  <dc:subject/>
  <dc:title/>
</cp:coreProperties>
</file>